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suction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4960" y="270000"/>
            <a:ext cx="655164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24960" y="270000"/>
            <a:ext cx="655164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24960" y="270000"/>
            <a:ext cx="655164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9E9976-6478-439F-BD7A-A8B6216971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4960" y="270000"/>
            <a:ext cx="655164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휴먼모음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1FB562-6976-485A-9EDE-339E1CF5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4960" y="270000"/>
            <a:ext cx="655164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E8BB9A-02D6-4CF5-A7E2-E2843B74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4960" y="270000"/>
            <a:ext cx="655164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581300-1A0F-4332-BE57-83F8CCAB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4960" y="270000"/>
            <a:ext cx="655164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60F9FD-FB88-41C3-83C9-83BAEF861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24960" y="270000"/>
            <a:ext cx="6551640" cy="26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휴먼모음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F21C42-D53D-494A-B5F0-20D08B773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4960" y="270000"/>
            <a:ext cx="655164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25F420-032D-4859-8C37-CC9E6911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4960" y="270000"/>
            <a:ext cx="655164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휴먼모음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4960" y="270000"/>
            <a:ext cx="655164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A2B053-4FD0-4983-9ECD-F14AA9DE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4960" y="270000"/>
            <a:ext cx="655164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AC8EF7-219D-465B-B885-B67E4440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4960" y="270000"/>
            <a:ext cx="655164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1B5DE2-CB88-44C3-8822-D4112C2E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4960" y="270000"/>
            <a:ext cx="655164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8D02F-BBB8-4D92-93AE-715AD6DD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4960" y="270000"/>
            <a:ext cx="655164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188292-D153-4A64-A28B-5F44D86424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4960" y="270000"/>
            <a:ext cx="655164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4960" y="270000"/>
            <a:ext cx="655164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4960" y="270000"/>
            <a:ext cx="655164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24960" y="270000"/>
            <a:ext cx="6551640" cy="26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휴먼모음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4960" y="270000"/>
            <a:ext cx="655164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4960" y="270000"/>
            <a:ext cx="655164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4960" y="270000"/>
            <a:ext cx="655164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휴먼모음T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휴먼모음T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휴먼모음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휴먼모음T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휴먼모음T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휴먼모음T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휴먼모음T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휴먼모음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휴먼모음T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휴먼모음T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휴먼모음T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휴먼모음T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휴먼모음T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휴먼모음T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휴먼모음T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7010280" y="6521400"/>
            <a:ext cx="1905120" cy="3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936520" y="6497640"/>
            <a:ext cx="2895480" cy="3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0920" y="0"/>
            <a:ext cx="504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8421840" y="6277320"/>
            <a:ext cx="637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8D5D-B099-4519-8B59-4F3A96757D86}" type="slidenum">
              <a:rPr b="1" lang="en-US" sz="1400" spc="-1" strike="noStrike">
                <a:solidFill>
                  <a:srgbClr val="666699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24960" y="270000"/>
            <a:ext cx="655164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휴먼모음T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휴먼모음T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35205" r="0" b="14934"/>
          <a:stretch/>
        </p:blipFill>
        <p:spPr>
          <a:xfrm>
            <a:off x="6095880" y="0"/>
            <a:ext cx="3048120" cy="836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836640"/>
            <a:ext cx="9144000" cy="777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3"/>
          </p:nvPr>
        </p:nvSpPr>
        <p:spPr>
          <a:xfrm>
            <a:off x="2666880" y="6521400"/>
            <a:ext cx="1905120" cy="3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4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C58D-25E8-4C80-9539-947D75DFF09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gradFill rotWithShape="0">
            <a:gsLst>
              <a:gs pos="0">
                <a:srgbClr val="175e5e"/>
              </a:gs>
              <a:gs pos="50000">
                <a:srgbClr val="33cccc"/>
              </a:gs>
              <a:gs pos="100000">
                <a:srgbClr val="175e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휴먼모음T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휴먼모음T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휴먼모음T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휴먼모음T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휴먼모음T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휴먼모음T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휴먼모음T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휴먼모음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휴먼모음T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휴먼모음T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휴먼모음T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휴먼모음T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휴먼모음T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휴먼모음T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휴먼모음T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휴먼모음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8920" y="26370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휴먼모음T"/>
              </a:rPr>
              <a:t>GPS</a:t>
            </a:r>
            <a:r>
              <a:rPr b="1" lang="zh-CN" sz="4000" spc="-1" strike="noStrike">
                <a:solidFill>
                  <a:srgbClr val="000000"/>
                </a:solidFill>
                <a:latin typeface="휴먼모음T"/>
              </a:rPr>
              <a:t>무전기 상품소개서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휴먼모음T"/>
              </a:rPr>
              <a:t>열기구</a:t>
            </a:r>
            <a:r>
              <a:rPr b="1" lang="en-US" sz="4000" spc="-1" strike="noStrike">
                <a:solidFill>
                  <a:srgbClr val="000000"/>
                </a:solidFill>
                <a:latin typeface="휴먼모음T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휴먼모음T"/>
              </a:rPr>
              <a:t>항공</a:t>
            </a:r>
            <a:r>
              <a:rPr b="1" lang="en-US" sz="4000" spc="-1" strike="noStrike">
                <a:solidFill>
                  <a:srgbClr val="000000"/>
                </a:solidFill>
                <a:latin typeface="휴먼모음T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휴먼모음T"/>
              </a:rPr>
              <a:t>비행전용</a:t>
            </a:r>
            <a:endParaRPr b="1" lang="en-US" sz="4000" spc="-1" strike="noStrike">
              <a:solidFill>
                <a:srgbClr val="003366"/>
              </a:solidFill>
              <a:latin typeface="휴먼모음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85280" y="333360"/>
            <a:ext cx="4876920" cy="52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굴림"/>
                <a:ea typeface="굴림"/>
              </a:rPr>
              <a:t>○ </a:t>
            </a:r>
            <a:r>
              <a:rPr b="1" lang="zh-CN" sz="2800" spc="-1" strike="noStrike">
                <a:solidFill>
                  <a:srgbClr val="333300"/>
                </a:solidFill>
                <a:latin typeface="굴림"/>
                <a:ea typeface="굴림"/>
              </a:rPr>
              <a:t>시스템 구성도 </a:t>
            </a:r>
            <a:r>
              <a:rPr b="1" lang="en-US" sz="2800" spc="-1" strike="noStrike">
                <a:solidFill>
                  <a:srgbClr val="333300"/>
                </a:solidFill>
                <a:latin typeface="굴림"/>
                <a:ea typeface="굴림"/>
              </a:rPr>
              <a:t>(1)</a:t>
            </a:r>
            <a:endParaRPr b="1" lang="en-US" sz="2800" spc="-1" strike="noStrike">
              <a:solidFill>
                <a:srgbClr val="003366"/>
              </a:solidFill>
              <a:latin typeface="휴먼모음T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29200" y="5105520"/>
            <a:ext cx="843120" cy="914400"/>
          </a:xfrm>
          <a:prstGeom prst="rect">
            <a:avLst/>
          </a:prstGeom>
          <a:ln w="3240">
            <a:solidFill>
              <a:srgbClr val="99cc99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4495680" y="6095880"/>
            <a:ext cx="22100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  <a:ea typeface="MS PGothic"/>
              </a:rPr>
              <a:t>PC-CONTROL CENTER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204920" y="1339920"/>
            <a:ext cx="3595680" cy="2944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굴림"/>
              </a:rPr>
              <a:t>Control center </a:t>
            </a:r>
            <a:r>
              <a:rPr b="1" lang="zh-CN" sz="1200" spc="-1" strike="noStrike">
                <a:solidFill>
                  <a:srgbClr val="ff0000"/>
                </a:solidFill>
                <a:latin typeface="굴림"/>
              </a:rPr>
              <a:t>무전기의 현재 위치와 이동 경로가 표시 됨 </a:t>
            </a:r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5964120" y="338760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962520" y="4648320"/>
          <a:ext cx="304560" cy="137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2520" y="4648320"/>
                    <a:ext cx="3045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7010280" y="2971800"/>
          <a:ext cx="304920" cy="137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10280" y="2971800"/>
                    <a:ext cx="3049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5105520" y="2971800"/>
          <a:ext cx="304560" cy="1371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05520" y="2971800"/>
                    <a:ext cx="3045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3276720" y="2971800"/>
          <a:ext cx="304560" cy="1371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276720" y="2971800"/>
                    <a:ext cx="3045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1447920" y="2971800"/>
          <a:ext cx="304560" cy="1371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447920" y="2971800"/>
                    <a:ext cx="3045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4343400" y="2133720"/>
          <a:ext cx="409680" cy="237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343400" y="2133720"/>
                    <a:ext cx="409680" cy="237960"/>
                  </a:xfrm>
                  <a:prstGeom prst="rect">
                    <a:avLst/>
                  </a:prstGeom>
                  <a:ln w="9360">
                    <a:solidFill>
                      <a:srgbClr val="33cccc"/>
                    </a:solidFill>
                    <a:miter/>
                  </a:ln>
                </p:spPr>
              </p:pic>
            </p:oleObj>
          </a:graphicData>
        </a:graphic>
      </p:graphicFrame>
      <p:cxnSp>
        <p:nvCxnSpPr>
          <p:cNvPr id="127" name=""/>
          <p:cNvCxnSpPr/>
          <p:nvPr/>
        </p:nvCxnSpPr>
        <p:spPr>
          <a:xfrm>
            <a:off x="1752120" y="4648320"/>
            <a:ext cx="1677240" cy="1296000"/>
          </a:xfrm>
          <a:prstGeom prst="bentConnector3">
            <a:avLst>
              <a:gd name="adj1" fmla="val 50000"/>
            </a:avLst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8" name=""/>
          <p:cNvCxnSpPr/>
          <p:nvPr/>
        </p:nvCxnSpPr>
        <p:spPr>
          <a:xfrm flipH="1" rot="16200000">
            <a:off x="3047760" y="4952520"/>
            <a:ext cx="1067400" cy="457920"/>
          </a:xfrm>
          <a:prstGeom prst="bentConnector3">
            <a:avLst>
              <a:gd name="adj1" fmla="val 50000"/>
            </a:avLst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9" name=""/>
          <p:cNvCxnSpPr/>
          <p:nvPr/>
        </p:nvCxnSpPr>
        <p:spPr>
          <a:xfrm flipV="1" rot="10800000">
            <a:off x="4494960" y="4418640"/>
            <a:ext cx="2210760" cy="610200"/>
          </a:xfrm>
          <a:prstGeom prst="bentConnector3">
            <a:avLst>
              <a:gd name="adj1" fmla="val 50000"/>
            </a:avLst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0" name=""/>
          <p:cNvCxnSpPr/>
          <p:nvPr/>
        </p:nvCxnSpPr>
        <p:spPr>
          <a:xfrm flipV="1" rot="10800000">
            <a:off x="4342680" y="4494600"/>
            <a:ext cx="610200" cy="305640"/>
          </a:xfrm>
          <a:prstGeom prst="bentConnector3">
            <a:avLst>
              <a:gd name="adj1" fmla="val 50000"/>
            </a:avLst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 flipV="1">
            <a:off x="1981080" y="2437920"/>
            <a:ext cx="1828800" cy="381240"/>
          </a:xfrm>
          <a:prstGeom prst="line">
            <a:avLst/>
          </a:prstGeom>
          <a:ln w="936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657600" y="2514600"/>
            <a:ext cx="609480" cy="457200"/>
          </a:xfrm>
          <a:prstGeom prst="line">
            <a:avLst/>
          </a:prstGeom>
          <a:ln w="936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4723920" y="2590920"/>
            <a:ext cx="228600" cy="304560"/>
          </a:xfrm>
          <a:prstGeom prst="line">
            <a:avLst/>
          </a:prstGeom>
          <a:ln w="936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028840" y="2438280"/>
            <a:ext cx="1676520" cy="457200"/>
          </a:xfrm>
          <a:prstGeom prst="line">
            <a:avLst/>
          </a:prstGeom>
          <a:ln w="936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2362320"/>
            <a:ext cx="609840" cy="285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GPS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029200"/>
            <a:ext cx="1828800" cy="285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Wireless system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  <p:cxnSp>
        <p:nvCxnSpPr>
          <p:cNvPr id="137" name=""/>
          <p:cNvCxnSpPr/>
          <p:nvPr/>
        </p:nvCxnSpPr>
        <p:spPr>
          <a:xfrm>
            <a:off x="4419720" y="5714640"/>
            <a:ext cx="457920" cy="1080"/>
          </a:xfrm>
          <a:prstGeom prst="straightConnector1">
            <a:avLst/>
          </a:prstGeom>
          <a:ln w="9360">
            <a:solidFill>
              <a:srgbClr val="6666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1371600" y="4343400"/>
            <a:ext cx="457200" cy="2581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001</a:t>
            </a:r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4343400"/>
            <a:ext cx="457200" cy="2581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002</a:t>
            </a:r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5029200" y="4343400"/>
            <a:ext cx="457200" cy="2581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003</a:t>
            </a:r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6934320" y="4343400"/>
            <a:ext cx="457200" cy="2581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004</a:t>
            </a:r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80880" y="1052640"/>
            <a:ext cx="8458200" cy="4968720"/>
          </a:xfrm>
          <a:prstGeom prst="rect">
            <a:avLst/>
          </a:prstGeom>
          <a:noFill/>
          <a:ln cap="rnd" w="64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5280" y="333360"/>
            <a:ext cx="4876920" cy="52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  <a:ea typeface="굴림"/>
              </a:rPr>
              <a:t>○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  <a:ea typeface="굴림"/>
              </a:rPr>
              <a:t>시스템 구성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  <a:ea typeface="굴림"/>
              </a:rPr>
              <a:t>(2)</a:t>
            </a:r>
            <a:endParaRPr b="1" lang="en-US" sz="28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981000"/>
            <a:ext cx="1936800" cy="387360"/>
          </a:xfrm>
          <a:prstGeom prst="roundRect">
            <a:avLst>
              <a:gd name="adj" fmla="val 50000"/>
            </a:avLst>
          </a:prstGeom>
          <a:solidFill>
            <a:srgbClr val="ffff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굴림"/>
              </a:rPr>
              <a:t>MAP</a:t>
            </a:r>
            <a:r>
              <a:rPr b="1" lang="zh-CN" sz="1800" spc="-1" strike="noStrike">
                <a:solidFill>
                  <a:srgbClr val="003366"/>
                </a:solidFill>
                <a:latin typeface="굴림"/>
              </a:rPr>
              <a:t>에 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1279440" y="4754520"/>
            <a:ext cx="1800" cy="324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355680" y="5016600"/>
            <a:ext cx="3240" cy="32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335268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380988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7200" y="1523880"/>
          <a:ext cx="662940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662940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7391520" y="2057400"/>
            <a:ext cx="1295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7124760" y="1523880"/>
            <a:ext cx="1600200" cy="8607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1400" spc="-1" strike="noStrike">
                <a:solidFill>
                  <a:srgbClr val="0000cc"/>
                </a:solidFill>
                <a:latin typeface="Times New Roman"/>
              </a:rPr>
              <a:t>사용자 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ID </a:t>
            </a:r>
            <a:r>
              <a:rPr b="1" lang="zh-CN" sz="1400" spc="-1" strike="noStrike">
                <a:solidFill>
                  <a:srgbClr val="0000cc"/>
                </a:solidFill>
                <a:latin typeface="Times New Roman"/>
              </a:rPr>
              <a:t>부여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1400" spc="-1" strike="noStrike">
                <a:solidFill>
                  <a:srgbClr val="0000cc"/>
                </a:solidFill>
                <a:latin typeface="Times New Roman"/>
              </a:rPr>
              <a:t>지도상에 표시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1400" spc="-1" strike="noStrike">
                <a:solidFill>
                  <a:srgbClr val="0000cc"/>
                </a:solidFill>
                <a:latin typeface="Times New Roman"/>
              </a:rPr>
              <a:t>무한대로 표시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1220760"/>
            <a:ext cx="8458200" cy="4800600"/>
          </a:xfrm>
          <a:prstGeom prst="rect">
            <a:avLst/>
          </a:prstGeom>
          <a:noFill/>
          <a:ln cap="rnd" w="64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85280" y="333360"/>
            <a:ext cx="4876920" cy="52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  <a:ea typeface="굴림"/>
              </a:rPr>
              <a:t>○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  <a:ea typeface="굴림"/>
              </a:rPr>
              <a:t>시스템 구성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  <a:ea typeface="굴림"/>
              </a:rPr>
              <a:t>(3)</a:t>
            </a:r>
            <a:endParaRPr b="1" lang="en-US" sz="28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1600200"/>
            <a:ext cx="1973160" cy="1116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1400" spc="-1" strike="noStrike">
                <a:solidFill>
                  <a:srgbClr val="0000cc"/>
                </a:solidFill>
                <a:latin typeface="Times New Roman"/>
              </a:rPr>
              <a:t>사용자 경로 파악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1400" spc="-1" strike="noStrike">
                <a:solidFill>
                  <a:srgbClr val="0000cc"/>
                </a:solidFill>
                <a:latin typeface="Times New Roman"/>
              </a:rPr>
              <a:t>원거리에서 확인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1400" spc="-1" strike="noStrike">
                <a:solidFill>
                  <a:srgbClr val="0000cc"/>
                </a:solidFill>
                <a:latin typeface="Times New Roman"/>
              </a:rPr>
              <a:t>현 위치 파악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501480" y="1046160"/>
            <a:ext cx="1478160" cy="387360"/>
          </a:xfrm>
          <a:prstGeom prst="roundRect">
            <a:avLst>
              <a:gd name="adj" fmla="val 50000"/>
            </a:avLst>
          </a:prstGeom>
          <a:solidFill>
            <a:srgbClr val="ffff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66"/>
                </a:solidFill>
                <a:latin typeface="굴림"/>
              </a:rPr>
              <a:t>이동 경로 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60240" y="1471680"/>
          <a:ext cx="5867640" cy="44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240" y="1471680"/>
                    <a:ext cx="5867640" cy="44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3276720" y="2590920"/>
            <a:ext cx="685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굴림"/>
              </a:rPr>
              <a:t>004</a:t>
            </a:r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1221480" y="1676520"/>
            <a:ext cx="4413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굴림"/>
              </a:rPr>
              <a:t>001</a:t>
            </a:r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4343400" y="5486400"/>
            <a:ext cx="685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굴림"/>
              </a:rPr>
              <a:t>005</a:t>
            </a:r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85280" y="333360"/>
            <a:ext cx="4876920" cy="52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  <a:ea typeface="굴림"/>
              </a:rPr>
              <a:t>○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  <a:ea typeface="굴림"/>
              </a:rPr>
              <a:t>목     차</a:t>
            </a:r>
            <a:endParaRPr b="1" lang="en-US" sz="28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89" name=""/>
          <p:cNvSpPr/>
          <p:nvPr/>
        </p:nvSpPr>
        <p:spPr>
          <a:xfrm>
            <a:off x="600120" y="1986120"/>
            <a:ext cx="8012160" cy="3125880"/>
          </a:xfrm>
          <a:prstGeom prst="roundRect">
            <a:avLst>
              <a:gd name="adj" fmla="val 569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5000"/>
              </a:lnSpc>
              <a:buClr>
                <a:srgbClr val="00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ko-KR" sz="2000" spc="-1" strike="noStrike">
                <a:solidFill>
                  <a:srgbClr val="0000cc"/>
                </a:solidFill>
                <a:latin typeface="Times New Roman"/>
              </a:rPr>
              <a:t>개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>
              <a:lnSpc>
                <a:spcPct val="155000"/>
              </a:lnSpc>
              <a:buClr>
                <a:srgbClr val="00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ko-KR" sz="2000" spc="-1" strike="noStrike">
                <a:solidFill>
                  <a:srgbClr val="0000cc"/>
                </a:solidFill>
                <a:latin typeface="Times New Roman"/>
              </a:rPr>
              <a:t>시스템 개발 및 배경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>
              <a:lnSpc>
                <a:spcPct val="155000"/>
              </a:lnSpc>
              <a:buClr>
                <a:srgbClr val="00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ko-KR" sz="2000" spc="-1" strike="noStrike">
                <a:solidFill>
                  <a:srgbClr val="0000cc"/>
                </a:solidFill>
                <a:latin typeface="Times New Roman"/>
              </a:rPr>
              <a:t>제품 소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>
              <a:lnSpc>
                <a:spcPct val="155000"/>
              </a:lnSpc>
              <a:buClr>
                <a:srgbClr val="00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ko-KR" sz="2000" spc="-1" strike="noStrike">
                <a:solidFill>
                  <a:srgbClr val="0000cc"/>
                </a:solidFill>
                <a:latin typeface="Times New Roman"/>
              </a:rPr>
              <a:t>제품 스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>
              <a:lnSpc>
                <a:spcPct val="155000"/>
              </a:lnSpc>
              <a:buClr>
                <a:srgbClr val="00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ko-KR" sz="2000" spc="-1" strike="noStrike">
                <a:solidFill>
                  <a:srgbClr val="0000cc"/>
                </a:solidFill>
                <a:latin typeface="Times New Roman"/>
              </a:rPr>
              <a:t>제품 특징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>
              <a:lnSpc>
                <a:spcPct val="155000"/>
              </a:lnSpc>
              <a:buClr>
                <a:srgbClr val="00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ko-KR" sz="2000" spc="-1" strike="noStrike">
                <a:solidFill>
                  <a:srgbClr val="0000cc"/>
                </a:solidFill>
                <a:latin typeface="Times New Roman"/>
              </a:rPr>
              <a:t>시스템 구성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85280" y="333360"/>
            <a:ext cx="4876920" cy="52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○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     요</a:t>
            </a:r>
            <a:endParaRPr b="1" lang="en-US" sz="32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91" name=""/>
          <p:cNvSpPr/>
          <p:nvPr/>
        </p:nvSpPr>
        <p:spPr>
          <a:xfrm>
            <a:off x="782640" y="2941200"/>
            <a:ext cx="7502400" cy="759240"/>
          </a:xfrm>
          <a:prstGeom prst="roundRect">
            <a:avLst>
              <a:gd name="adj" fmla="val 5699"/>
            </a:avLst>
          </a:prstGeom>
          <a:noFill/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cc"/>
                </a:solidFill>
                <a:latin typeface="Times New Roman"/>
              </a:rPr>
              <a:t>무전기에 </a:t>
            </a:r>
            <a:r>
              <a:rPr b="1" lang="ko-KR" sz="2400" spc="-1" strike="noStrike">
                <a:solidFill>
                  <a:srgbClr val="0000cc"/>
                </a:solidFill>
                <a:latin typeface="Times New Roman"/>
              </a:rPr>
              <a:t>GPS </a:t>
            </a:r>
            <a:r>
              <a:rPr b="1" lang="ko-KR" sz="2400" spc="-1" strike="noStrike">
                <a:solidFill>
                  <a:srgbClr val="0000cc"/>
                </a:solidFill>
                <a:latin typeface="Times New Roman"/>
              </a:rPr>
              <a:t>기능이 첨가된 신개념 무선  시스템 입니다</a:t>
            </a:r>
            <a:r>
              <a:rPr b="1" lang="ko-KR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85640" y="333360"/>
            <a:ext cx="5166000" cy="52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  <a:ea typeface="굴림"/>
              </a:rPr>
              <a:t>○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  <a:ea typeface="굴림"/>
              </a:rPr>
              <a:t>시스템 개발 및 배경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  <a:ea typeface="굴림"/>
              </a:rPr>
              <a:t>(1)</a:t>
            </a:r>
            <a:endParaRPr b="1" lang="en-US" sz="28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2246760"/>
            <a:ext cx="8132760" cy="2689920"/>
          </a:xfrm>
          <a:prstGeom prst="roundRect">
            <a:avLst>
              <a:gd name="adj" fmla="val 5699"/>
            </a:avLst>
          </a:prstGeom>
          <a:noFill/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75000"/>
              </a:lnSpc>
              <a:buClr>
                <a:srgbClr val="00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기존의 무전기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lvl="1" marL="457200">
              <a:lnSpc>
                <a:spcPct val="175000"/>
              </a:lnSpc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굴림"/>
              </a:rPr>
              <a:t> </a:t>
            </a:r>
            <a:r>
              <a:rPr b="0" lang="zh-CN" sz="1800" spc="-1" strike="noStrike">
                <a:solidFill>
                  <a:srgbClr val="0000cc"/>
                </a:solidFill>
                <a:latin typeface="Times New Roman"/>
                <a:ea typeface="굴림"/>
              </a:rPr>
              <a:t>단순히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  <a:ea typeface="굴림"/>
              </a:rPr>
              <a:t>1</a:t>
            </a:r>
            <a:r>
              <a:rPr b="0" lang="zh-CN" sz="1800" spc="-1" strike="noStrike">
                <a:solidFill>
                  <a:srgbClr val="0000cc"/>
                </a:solidFill>
                <a:latin typeface="Times New Roman"/>
                <a:ea typeface="굴림"/>
              </a:rPr>
              <a:t>대 다수에 통화만 가능 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lvl="1" marL="457200">
              <a:lnSpc>
                <a:spcPct val="175000"/>
              </a:lnSpc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  <a:ea typeface="굴림"/>
              </a:rPr>
              <a:t> </a:t>
            </a:r>
            <a:r>
              <a:rPr b="0" lang="zh-CN" sz="1800" spc="-1" strike="noStrike">
                <a:solidFill>
                  <a:srgbClr val="0000cc"/>
                </a:solidFill>
                <a:latin typeface="Times New Roman"/>
                <a:ea typeface="굴림"/>
              </a:rPr>
              <a:t>시스템 설계가 부족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lvl="1" marL="457200">
              <a:lnSpc>
                <a:spcPct val="175000"/>
              </a:lnSpc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  <a:ea typeface="굴림"/>
              </a:rPr>
              <a:t> </a:t>
            </a:r>
            <a:r>
              <a:rPr b="0" lang="zh-CN" sz="1800" spc="-1" strike="noStrike">
                <a:solidFill>
                  <a:srgbClr val="0000cc"/>
                </a:solidFill>
                <a:latin typeface="Times New Roman"/>
                <a:ea typeface="굴림"/>
              </a:rPr>
              <a:t>단순한 기능에 저가 제품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lvl="1" marL="457200">
              <a:lnSpc>
                <a:spcPct val="175000"/>
              </a:lnSpc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  <a:ea typeface="굴림"/>
              </a:rPr>
              <a:t> </a:t>
            </a:r>
            <a:r>
              <a:rPr b="0" lang="zh-CN" sz="1800" spc="-1" strike="noStrike">
                <a:solidFill>
                  <a:srgbClr val="0000cc"/>
                </a:solidFill>
                <a:latin typeface="Times New Roman"/>
                <a:ea typeface="굴림"/>
              </a:rPr>
              <a:t>늘어가는 고객의 요구를 기존 무전기로 해결하기 어려움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5280" y="333360"/>
            <a:ext cx="5599080" cy="52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  <a:ea typeface="굴림"/>
              </a:rPr>
              <a:t>○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  <a:ea typeface="굴림"/>
              </a:rPr>
              <a:t>시스템 개발 및 배경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  <a:ea typeface="굴림"/>
              </a:rPr>
              <a:t>(2)</a:t>
            </a:r>
            <a:endParaRPr b="1" lang="en-US" sz="28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95" name=""/>
          <p:cNvSpPr/>
          <p:nvPr/>
        </p:nvSpPr>
        <p:spPr>
          <a:xfrm>
            <a:off x="544680" y="2470320"/>
            <a:ext cx="8208720" cy="2193480"/>
          </a:xfrm>
          <a:prstGeom prst="roundRect">
            <a:avLst>
              <a:gd name="adj" fmla="val 5699"/>
            </a:avLst>
          </a:prstGeom>
          <a:noFill/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75000"/>
              </a:lnSpc>
              <a:buClr>
                <a:srgbClr val="00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00cc"/>
                </a:solidFill>
                <a:latin typeface="Times New Roman"/>
              </a:rPr>
              <a:t>기존의 </a:t>
            </a:r>
            <a:r>
              <a:rPr b="1" lang="ko-KR" sz="2000" spc="-1" strike="noStrike">
                <a:solidFill>
                  <a:srgbClr val="0000cc"/>
                </a:solidFill>
                <a:latin typeface="Times New Roman"/>
              </a:rPr>
              <a:t>GPS </a:t>
            </a:r>
            <a:r>
              <a:rPr b="1" lang="ko-KR" sz="2000" spc="-1" strike="noStrike">
                <a:solidFill>
                  <a:srgbClr val="0000cc"/>
                </a:solidFill>
                <a:latin typeface="Times New Roman"/>
              </a:rPr>
              <a:t>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lvl="1" marL="457200">
              <a:lnSpc>
                <a:spcPct val="175000"/>
              </a:lnSpc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cc"/>
                </a:solidFill>
                <a:latin typeface="Times New Roman"/>
                <a:ea typeface="굴림"/>
              </a:rPr>
              <a:t> </a:t>
            </a:r>
            <a:r>
              <a:rPr b="0" lang="ko-KR" sz="1800" spc="-1" strike="noStrike">
                <a:solidFill>
                  <a:srgbClr val="0000cc"/>
                </a:solidFill>
                <a:latin typeface="Times New Roman"/>
                <a:ea typeface="굴림"/>
              </a:rPr>
              <a:t>MAP </a:t>
            </a:r>
            <a:r>
              <a:rPr b="0" lang="ko-KR" sz="1800" spc="-1" strike="noStrike">
                <a:solidFill>
                  <a:srgbClr val="0000cc"/>
                </a:solidFill>
                <a:latin typeface="Times New Roman"/>
                <a:ea typeface="굴림"/>
              </a:rPr>
              <a:t>상에 자신에 위치만 표시 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lvl="1" marL="457200">
              <a:lnSpc>
                <a:spcPct val="175000"/>
              </a:lnSpc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cc"/>
                </a:solidFill>
                <a:latin typeface="Times New Roman"/>
                <a:ea typeface="굴림"/>
              </a:rPr>
              <a:t> </a:t>
            </a:r>
            <a:r>
              <a:rPr b="0" lang="ko-KR" sz="1800" spc="-1" strike="noStrike">
                <a:solidFill>
                  <a:srgbClr val="0000cc"/>
                </a:solidFill>
                <a:latin typeface="Times New Roman"/>
                <a:ea typeface="굴림"/>
              </a:rPr>
              <a:t>다른  </a:t>
            </a:r>
            <a:r>
              <a:rPr b="0" lang="ko-KR" sz="1800" spc="-1" strike="noStrike">
                <a:solidFill>
                  <a:srgbClr val="0000cc"/>
                </a:solidFill>
                <a:latin typeface="Times New Roman"/>
                <a:ea typeface="굴림"/>
              </a:rPr>
              <a:t>GPS </a:t>
            </a:r>
            <a:r>
              <a:rPr b="0" lang="ko-KR" sz="1800" spc="-1" strike="noStrike">
                <a:solidFill>
                  <a:srgbClr val="0000cc"/>
                </a:solidFill>
                <a:latin typeface="Times New Roman"/>
                <a:ea typeface="굴림"/>
              </a:rPr>
              <a:t>표시가 안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lvl="1" marL="457200">
              <a:lnSpc>
                <a:spcPct val="175000"/>
              </a:lnSpc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cc"/>
                </a:solidFill>
                <a:latin typeface="Times New Roman"/>
                <a:ea typeface="굴림"/>
              </a:rPr>
              <a:t> </a:t>
            </a:r>
            <a:r>
              <a:rPr b="0" lang="ko-KR" sz="1800" spc="-1" strike="noStrike">
                <a:solidFill>
                  <a:srgbClr val="0000cc"/>
                </a:solidFill>
                <a:latin typeface="Times New Roman"/>
                <a:ea typeface="굴림"/>
              </a:rPr>
              <a:t>주변장치와의 연동을 위해서 별도의 기술적 세팅이 필요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5280" y="333360"/>
            <a:ext cx="5094360" cy="52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  <a:ea typeface="굴림"/>
              </a:rPr>
              <a:t>○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  <a:ea typeface="굴림"/>
              </a:rPr>
              <a:t>시스템 개발 및 배경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  <a:ea typeface="굴림"/>
              </a:rPr>
              <a:t>(3)</a:t>
            </a:r>
            <a:endParaRPr b="1" lang="en-US" sz="28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97" name=""/>
          <p:cNvSpPr/>
          <p:nvPr/>
        </p:nvSpPr>
        <p:spPr>
          <a:xfrm>
            <a:off x="555480" y="2241720"/>
            <a:ext cx="8131320" cy="2689920"/>
          </a:xfrm>
          <a:prstGeom prst="roundRect">
            <a:avLst>
              <a:gd name="adj" fmla="val 5699"/>
            </a:avLst>
          </a:prstGeom>
          <a:noFill/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75000"/>
              </a:lnSpc>
              <a:buClr>
                <a:srgbClr val="00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사용자 편의 시스템의 부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lvl="1" marL="457200">
              <a:lnSpc>
                <a:spcPct val="175000"/>
              </a:lnSpc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굴림"/>
              </a:rPr>
              <a:t> </a:t>
            </a:r>
            <a:r>
              <a:rPr b="0" lang="zh-CN" sz="1800" spc="-1" strike="noStrike">
                <a:solidFill>
                  <a:srgbClr val="0000cc"/>
                </a:solidFill>
                <a:latin typeface="Times New Roman"/>
                <a:ea typeface="굴림"/>
              </a:rPr>
              <a:t>많은 유저를 동시에 보기 위한 시스템 부재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lvl="1" marL="457200">
              <a:lnSpc>
                <a:spcPct val="175000"/>
              </a:lnSpc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  <a:ea typeface="굴림"/>
              </a:rPr>
              <a:t> </a:t>
            </a:r>
            <a:r>
              <a:rPr b="0" lang="zh-CN" sz="1800" spc="-1" strike="noStrike">
                <a:solidFill>
                  <a:srgbClr val="0000cc"/>
                </a:solidFill>
                <a:latin typeface="Times New Roman"/>
                <a:ea typeface="굴림"/>
              </a:rPr>
              <a:t>동선 파악을 위한  모니터링 시스템 부재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lvl="1" marL="457200">
              <a:lnSpc>
                <a:spcPct val="175000"/>
              </a:lnSpc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  <a:ea typeface="굴림"/>
              </a:rPr>
              <a:t> </a:t>
            </a:r>
            <a:r>
              <a:rPr b="0" lang="zh-CN" sz="1800" spc="-1" strike="noStrike">
                <a:solidFill>
                  <a:srgbClr val="0000cc"/>
                </a:solidFill>
                <a:latin typeface="Times New Roman"/>
                <a:ea typeface="굴림"/>
              </a:rPr>
              <a:t>어떠한 장소에서도 모니터링 기능을 부여하는 시스템의 부재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lvl="1" marL="457200">
              <a:lnSpc>
                <a:spcPct val="175000"/>
              </a:lnSpc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  <a:ea typeface="굴림"/>
              </a:rPr>
              <a:t> </a:t>
            </a:r>
            <a:r>
              <a:rPr b="0" lang="zh-CN" sz="1800" spc="-1" strike="noStrike">
                <a:solidFill>
                  <a:srgbClr val="0000cc"/>
                </a:solidFill>
                <a:latin typeface="Times New Roman"/>
                <a:ea typeface="굴림"/>
              </a:rPr>
              <a:t>사용자에 대한  원격지 관찰 시스템 부재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3200" y="328680"/>
            <a:ext cx="655164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  <a:ea typeface="굴림"/>
              </a:rPr>
              <a:t>○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  <a:ea typeface="굴림"/>
              </a:rPr>
              <a:t>제 품 소 개</a:t>
            </a:r>
            <a:endParaRPr b="1" lang="en-US" sz="28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99" name=""/>
          <p:cNvSpPr/>
          <p:nvPr/>
        </p:nvSpPr>
        <p:spPr>
          <a:xfrm>
            <a:off x="4068720" y="1523880"/>
            <a:ext cx="4824360" cy="2057400"/>
          </a:xfrm>
          <a:prstGeom prst="roundRect">
            <a:avLst>
              <a:gd name="adj" fmla="val 751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MAN DOWN AND LONE WORK  </a:t>
            </a:r>
            <a:r>
              <a:rPr b="1" lang="zh-CN" sz="1400" spc="-1" strike="noStrike">
                <a:solidFill>
                  <a:srgbClr val="0000cc"/>
                </a:solidFill>
                <a:latin typeface="Times New Roman"/>
              </a:rPr>
              <a:t>기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GPS</a:t>
            </a:r>
            <a:r>
              <a:rPr b="1" lang="zh-CN" sz="1400" spc="-1" strike="noStrike">
                <a:solidFill>
                  <a:srgbClr val="0000cc"/>
                </a:solidFill>
                <a:latin typeface="Times New Roman"/>
              </a:rPr>
              <a:t>기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1400" spc="-1" strike="noStrike">
                <a:solidFill>
                  <a:srgbClr val="0000cc"/>
                </a:solidFill>
                <a:latin typeface="Times New Roman"/>
              </a:rPr>
              <a:t>비상 알람  기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REMOTE KILL / STUN </a:t>
            </a:r>
            <a:r>
              <a:rPr b="1" lang="zh-CN" sz="1400" spc="-1" strike="noStrike">
                <a:solidFill>
                  <a:srgbClr val="0000cc"/>
                </a:solidFill>
                <a:latin typeface="Times New Roman"/>
              </a:rPr>
              <a:t>기능 등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4173480" y="1066680"/>
            <a:ext cx="1622520" cy="387360"/>
          </a:xfrm>
          <a:prstGeom prst="roundRect">
            <a:avLst>
              <a:gd name="adj" fmla="val 50000"/>
            </a:avLst>
          </a:prstGeom>
          <a:solidFill>
            <a:srgbClr val="ffff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66"/>
                </a:solidFill>
                <a:latin typeface="굴림"/>
              </a:rPr>
              <a:t>주요 기능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1268280"/>
            <a:ext cx="3456000" cy="4969080"/>
          </a:xfrm>
          <a:custGeom>
            <a:avLst/>
            <a:gdLst>
              <a:gd name="textAreaLeft" fmla="*/ 90720 w 3456000"/>
              <a:gd name="textAreaRight" fmla="*/ 3365280 w 3456000"/>
              <a:gd name="textAreaTop" fmla="*/ 90720 h 4969080"/>
              <a:gd name="textAreaBottom" fmla="*/ 4878360 h 4969080"/>
            </a:gdLst>
            <a:ahLst/>
            <a:rect l="textAreaLeft" t="textAreaTop" r="textAreaRight" b="textAreaBottom"/>
            <a:pathLst>
              <a:path w="21600" h="31056">
                <a:moveTo>
                  <a:pt x="1938" y="0"/>
                </a:moveTo>
                <a:arcTo wR="1938" hR="1938" stAng="16200000" swAng="-5400000"/>
                <a:lnTo>
                  <a:pt x="0" y="29118"/>
                </a:lnTo>
                <a:arcTo wR="1938" hR="1938" stAng="10800000" swAng="-5400000"/>
                <a:lnTo>
                  <a:pt x="19662" y="31056"/>
                </a:lnTo>
                <a:arcTo wR="1938" hR="1938" stAng="5400000" swAng="-5400000"/>
                <a:lnTo>
                  <a:pt x="21600" y="1938"/>
                </a:lnTo>
                <a:arcTo wR="1938" hR="1938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140360" y="3789360"/>
          <a:ext cx="4800600" cy="2230200"/>
        </p:xfrm>
        <a:graphic>
          <a:graphicData uri="http://schemas.openxmlformats.org/drawingml/2006/table">
            <a:tbl>
              <a:tblPr/>
              <a:tblGrid>
                <a:gridCol w="1504800"/>
                <a:gridCol w="3295800"/>
              </a:tblGrid>
              <a:tr h="31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66"/>
                          </a:solidFill>
                          <a:latin typeface="굴림"/>
                          <a:ea typeface="굴림"/>
                        </a:rPr>
                        <a:t>주파수 범위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굴림"/>
                          <a:ea typeface="굴림"/>
                        </a:rPr>
                        <a:t>400~470MHz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66"/>
                          </a:solidFill>
                          <a:latin typeface="굴림"/>
                          <a:ea typeface="굴림"/>
                        </a:rPr>
                        <a:t>채널 수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굴림"/>
                          <a:ea typeface="굴림"/>
                        </a:rPr>
                        <a:t>16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굴림"/>
                          <a:ea typeface="굴림"/>
                        </a:rPr>
                        <a:t>채널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66"/>
                          </a:solidFill>
                          <a:latin typeface="굴림"/>
                          <a:ea typeface="굴림"/>
                        </a:rPr>
                        <a:t>사 용 전 압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굴림"/>
                          <a:ea typeface="굴림"/>
                        </a:rPr>
                        <a:t>7.5V DC 20%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66"/>
                          </a:solidFill>
                          <a:latin typeface="굴림"/>
                          <a:ea typeface="굴림"/>
                        </a:rPr>
                        <a:t>크 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굴림"/>
                          <a:ea typeface="굴림"/>
                        </a:rPr>
                        <a:t>54.5*113*3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66"/>
                          </a:solidFill>
                          <a:latin typeface="굴림"/>
                          <a:ea typeface="굴림"/>
                        </a:rPr>
                        <a:t>무 게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굴림"/>
                          <a:ea typeface="굴림"/>
                        </a:rPr>
                        <a:t>280g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66"/>
                          </a:solidFill>
                          <a:latin typeface="굴림"/>
                          <a:ea typeface="굴림"/>
                        </a:rPr>
                        <a:t>배 터 리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굴림"/>
                          <a:ea typeface="굴림"/>
                        </a:rPr>
                        <a:t>1700mm Ii-pol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4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66"/>
                          </a:solidFill>
                          <a:latin typeface="굴림"/>
                          <a:ea typeface="굴림"/>
                        </a:rPr>
                        <a:t>동 작 온 도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굴림"/>
                          <a:ea typeface="굴림"/>
                        </a:rPr>
                        <a:t>-20 ~ +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1447920" y="5867280"/>
            <a:ext cx="99036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1905120"/>
          <a:ext cx="10666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905120"/>
                    <a:ext cx="10666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85640" y="333360"/>
            <a:ext cx="5166000" cy="52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  <a:ea typeface="굴림"/>
              </a:rPr>
              <a:t>○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  <a:ea typeface="굴림"/>
              </a:rPr>
              <a:t>제품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  <a:ea typeface="굴림"/>
              </a:rPr>
              <a:t>SPEC</a:t>
            </a:r>
            <a:endParaRPr b="1" lang="en-US" sz="28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107" name=""/>
          <p:cNvSpPr/>
          <p:nvPr/>
        </p:nvSpPr>
        <p:spPr>
          <a:xfrm>
            <a:off x="528480" y="1502280"/>
            <a:ext cx="8164800" cy="4107960"/>
          </a:xfrm>
          <a:prstGeom prst="roundRect">
            <a:avLst>
              <a:gd name="adj" fmla="val 5699"/>
            </a:avLst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buClr>
                <a:srgbClr val="00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00cc"/>
                </a:solidFill>
                <a:latin typeface="Times New Roman"/>
              </a:rPr>
              <a:t>송신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lvl="1" marL="457200">
              <a:lnSpc>
                <a:spcPct val="95000"/>
              </a:lnSpc>
              <a:buClr>
                <a:srgbClr val="00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 </a:t>
            </a:r>
            <a:r>
              <a:rPr b="0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정격 출력                               </a:t>
            </a:r>
            <a:r>
              <a:rPr b="0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4/1W 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lvl="1" marL="457200">
              <a:lnSpc>
                <a:spcPct val="95000"/>
              </a:lnSpc>
              <a:buClr>
                <a:srgbClr val="00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 </a:t>
            </a:r>
            <a:r>
              <a:rPr b="0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주파수 변조방식                   </a:t>
            </a:r>
            <a:r>
              <a:rPr b="0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8K50F3E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lvl="1" marL="457200">
              <a:lnSpc>
                <a:spcPct val="95000"/>
              </a:lnSpc>
              <a:buClr>
                <a:srgbClr val="00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 </a:t>
            </a:r>
            <a:r>
              <a:rPr b="0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안테나 임피던스                   </a:t>
            </a:r>
            <a:r>
              <a:rPr b="0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50</a:t>
            </a:r>
            <a:r>
              <a:rPr b="0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옴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lvl="1" marL="457200">
              <a:lnSpc>
                <a:spcPct val="95000"/>
              </a:lnSpc>
              <a:buClr>
                <a:srgbClr val="00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 </a:t>
            </a:r>
            <a:r>
              <a:rPr b="0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변조 왜곡                               </a:t>
            </a:r>
            <a:r>
              <a:rPr b="0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&lt;5%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lvl="1" marL="457200">
              <a:lnSpc>
                <a:spcPct val="95000"/>
              </a:lnSpc>
              <a:buClr>
                <a:srgbClr val="00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 </a:t>
            </a:r>
            <a:r>
              <a:rPr b="0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스퓨리어스                            </a:t>
            </a:r>
            <a:r>
              <a:rPr b="0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-35dBm&lt;1GHz  / -30dBm&gt;1GHz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lvl="1" marL="457200">
              <a:lnSpc>
                <a:spcPct val="95000"/>
              </a:lnSpc>
              <a:buClr>
                <a:srgbClr val="00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 </a:t>
            </a:r>
            <a:r>
              <a:rPr b="0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인접 채널 출력                      </a:t>
            </a:r>
            <a:r>
              <a:rPr b="0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-60dB@12.5KHz  / -70dB@20KHz/25KHz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lvl="1" marL="457200">
              <a:lnSpc>
                <a:spcPct val="95000"/>
              </a:lnSpc>
              <a:buClr>
                <a:srgbClr val="00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 </a:t>
            </a:r>
            <a:r>
              <a:rPr b="0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FM </a:t>
            </a:r>
            <a:r>
              <a:rPr b="0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노이즈                             </a:t>
            </a:r>
            <a:r>
              <a:rPr b="0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-35dB@12.5KHz / -40dB@20KHz/25KHz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>
              <a:lnSpc>
                <a:spcPct val="105000"/>
              </a:lnSpc>
              <a:buClr>
                <a:srgbClr val="00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00cc"/>
                </a:solidFill>
                <a:latin typeface="Times New Roman"/>
              </a:rPr>
              <a:t>수신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lvl="1" marL="457200">
              <a:lnSpc>
                <a:spcPct val="95000"/>
              </a:lnSpc>
              <a:buClr>
                <a:srgbClr val="00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 </a:t>
            </a:r>
            <a:r>
              <a:rPr b="0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Reference </a:t>
            </a:r>
            <a:r>
              <a:rPr b="0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감도                       </a:t>
            </a:r>
            <a:r>
              <a:rPr b="0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0.28V@12.5KHz  / 0.25V@20KHz/25KHz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lvl="1" marL="457200">
              <a:lnSpc>
                <a:spcPct val="95000"/>
              </a:lnSpc>
              <a:buClr>
                <a:srgbClr val="00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 </a:t>
            </a:r>
            <a:r>
              <a:rPr b="0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First IF                                    51.65MHz   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lvl="1" marL="457200">
              <a:lnSpc>
                <a:spcPct val="95000"/>
              </a:lnSpc>
              <a:buClr>
                <a:srgbClr val="00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 </a:t>
            </a:r>
            <a:r>
              <a:rPr b="0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Second IF                                450MHz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lvl="1" marL="457200">
              <a:lnSpc>
                <a:spcPct val="95000"/>
              </a:lnSpc>
              <a:buClr>
                <a:srgbClr val="00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 </a:t>
            </a:r>
            <a:r>
              <a:rPr b="0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인접채널 선택도                   </a:t>
            </a:r>
            <a:r>
              <a:rPr b="0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-60dB@12.5KHz  / -70dB@20KHz/25KHz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lvl="1" marL="457200">
              <a:lnSpc>
                <a:spcPct val="95000"/>
              </a:lnSpc>
              <a:buClr>
                <a:srgbClr val="00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 </a:t>
            </a:r>
            <a:r>
              <a:rPr b="0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상호변조 제거 비                  </a:t>
            </a:r>
            <a:r>
              <a:rPr b="0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65dB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lvl="1" marL="457200">
              <a:lnSpc>
                <a:spcPct val="95000"/>
              </a:lnSpc>
              <a:buClr>
                <a:srgbClr val="00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 </a:t>
            </a:r>
            <a:r>
              <a:rPr b="0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스퓨리어스 응답 제거 비     </a:t>
            </a:r>
            <a:r>
              <a:rPr b="0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70dB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lvl="1" marL="457200">
              <a:lnSpc>
                <a:spcPct val="95000"/>
              </a:lnSpc>
              <a:buClr>
                <a:srgbClr val="00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 </a:t>
            </a:r>
            <a:r>
              <a:rPr b="0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오디오 출력                           </a:t>
            </a:r>
            <a:r>
              <a:rPr b="0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1W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lvl="1" marL="457200">
              <a:lnSpc>
                <a:spcPct val="95000"/>
              </a:lnSpc>
              <a:buClr>
                <a:srgbClr val="00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 </a:t>
            </a:r>
            <a:r>
              <a:rPr b="0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오디오 왜곡                            </a:t>
            </a:r>
            <a:r>
              <a:rPr b="0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&lt;5%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lvl="1" marL="457200">
              <a:lnSpc>
                <a:spcPct val="95000"/>
              </a:lnSpc>
              <a:buClr>
                <a:srgbClr val="00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 </a:t>
            </a:r>
            <a:r>
              <a:rPr b="0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FM </a:t>
            </a:r>
            <a:r>
              <a:rPr b="0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노이즈                              </a:t>
            </a:r>
            <a:r>
              <a:rPr b="0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40/35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5640" y="333360"/>
            <a:ext cx="5166000" cy="52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  <a:ea typeface="굴림"/>
              </a:rPr>
              <a:t>○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  <a:ea typeface="굴림"/>
              </a:rPr>
              <a:t>제 품 특 징</a:t>
            </a:r>
            <a:endParaRPr b="1" lang="en-US" sz="2800" spc="-1" strike="noStrike">
              <a:solidFill>
                <a:srgbClr val="003366"/>
              </a:solidFill>
              <a:latin typeface="휴먼모음T"/>
            </a:endParaRPr>
          </a:p>
        </p:txBody>
      </p:sp>
      <p:sp>
        <p:nvSpPr>
          <p:cNvPr id="109" name=""/>
          <p:cNvSpPr/>
          <p:nvPr/>
        </p:nvSpPr>
        <p:spPr>
          <a:xfrm>
            <a:off x="237960" y="1324080"/>
            <a:ext cx="8655120" cy="4479480"/>
          </a:xfrm>
          <a:prstGeom prst="roundRect">
            <a:avLst>
              <a:gd name="adj" fmla="val 5699"/>
            </a:avLst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buClr>
                <a:srgbClr val="00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00cc"/>
                </a:solidFill>
                <a:latin typeface="Times New Roman"/>
              </a:rPr>
              <a:t>제품 의 특화 된 기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lvl="1" marL="457200">
              <a:lnSpc>
                <a:spcPct val="135000"/>
              </a:lnSpc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cc"/>
                </a:solidFill>
                <a:latin typeface="Times New Roman"/>
                <a:ea typeface="굴림"/>
              </a:rPr>
              <a:t> </a:t>
            </a:r>
            <a:r>
              <a:rPr b="0" lang="ko-KR" sz="1800" spc="-1" strike="noStrike">
                <a:solidFill>
                  <a:srgbClr val="0000cc"/>
                </a:solidFill>
                <a:latin typeface="Times New Roman"/>
                <a:ea typeface="굴림"/>
              </a:rPr>
              <a:t>소방에 필요한 방수 기능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lvl="1" marL="457200">
              <a:lnSpc>
                <a:spcPct val="135000"/>
              </a:lnSpc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cc"/>
                </a:solidFill>
                <a:latin typeface="Times New Roman"/>
                <a:ea typeface="굴림"/>
              </a:rPr>
              <a:t> </a:t>
            </a:r>
            <a:r>
              <a:rPr b="0" lang="ko-KR" sz="1800" spc="-1" strike="noStrike">
                <a:solidFill>
                  <a:srgbClr val="0000cc"/>
                </a:solidFill>
                <a:latin typeface="Times New Roman"/>
                <a:ea typeface="굴림"/>
              </a:rPr>
              <a:t>작전 수행이 가능한 </a:t>
            </a:r>
            <a:r>
              <a:rPr b="0" lang="ko-KR" sz="1800" spc="-1" strike="noStrike">
                <a:solidFill>
                  <a:srgbClr val="0000cc"/>
                </a:solidFill>
                <a:latin typeface="Times New Roman"/>
                <a:ea typeface="굴림"/>
              </a:rPr>
              <a:t>GPS </a:t>
            </a:r>
            <a:r>
              <a:rPr b="0" lang="ko-KR" sz="1800" spc="-1" strike="noStrike">
                <a:solidFill>
                  <a:srgbClr val="0000cc"/>
                </a:solidFill>
                <a:latin typeface="Times New Roman"/>
                <a:ea typeface="굴림"/>
              </a:rPr>
              <a:t>기능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lvl="1" marL="457200">
              <a:lnSpc>
                <a:spcPct val="135000"/>
              </a:lnSpc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cc"/>
                </a:solidFill>
                <a:latin typeface="Times New Roman"/>
                <a:ea typeface="굴림"/>
              </a:rPr>
              <a:t> </a:t>
            </a:r>
            <a:r>
              <a:rPr b="0" lang="ko-KR" sz="1800" spc="-1" strike="noStrike">
                <a:solidFill>
                  <a:srgbClr val="0000cc"/>
                </a:solidFill>
                <a:latin typeface="Times New Roman"/>
                <a:ea typeface="굴림"/>
              </a:rPr>
              <a:t>사용자 안전에 필요한 </a:t>
            </a:r>
            <a:r>
              <a:rPr b="0" lang="ko-KR" sz="1800" spc="-1" strike="noStrike">
                <a:solidFill>
                  <a:srgbClr val="0000cc"/>
                </a:solidFill>
                <a:latin typeface="Times New Roman"/>
                <a:ea typeface="굴림"/>
              </a:rPr>
              <a:t>MAN DOWN </a:t>
            </a:r>
            <a:r>
              <a:rPr b="0" lang="ko-KR" sz="1800" spc="-1" strike="noStrike">
                <a:solidFill>
                  <a:srgbClr val="0000cc"/>
                </a:solidFill>
                <a:latin typeface="Times New Roman"/>
                <a:ea typeface="굴림"/>
              </a:rPr>
              <a:t>기능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>
              <a:lnSpc>
                <a:spcPct val="135000"/>
              </a:lnSpc>
              <a:buClr>
                <a:srgbClr val="00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00cc"/>
                </a:solidFill>
                <a:latin typeface="Times New Roman"/>
              </a:rPr>
              <a:t>손쉬운 프로그램 설치 </a:t>
            </a:r>
            <a:r>
              <a:rPr b="1" lang="ko-KR" sz="2000" spc="-1" strike="noStrike">
                <a:solidFill>
                  <a:srgbClr val="0000cc"/>
                </a:solidFill>
                <a:latin typeface="Times New Roman"/>
              </a:rPr>
              <a:t>(PIC)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lvl="1" marL="457200">
              <a:lnSpc>
                <a:spcPct val="135000"/>
              </a:lnSpc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cc"/>
                </a:solidFill>
                <a:latin typeface="Times New Roman"/>
                <a:ea typeface="굴림"/>
              </a:rPr>
              <a:t> </a:t>
            </a:r>
            <a:r>
              <a:rPr b="0" lang="ko-KR" sz="1800" spc="-1" strike="noStrike">
                <a:solidFill>
                  <a:srgbClr val="0000cc"/>
                </a:solidFill>
                <a:latin typeface="Times New Roman"/>
                <a:ea typeface="굴림"/>
              </a:rPr>
              <a:t>간단한 주변 장치와의 세팅 </a:t>
            </a:r>
            <a:r>
              <a:rPr b="0" lang="ko-KR" sz="1800" spc="-1" strike="noStrike">
                <a:solidFill>
                  <a:srgbClr val="0000cc"/>
                </a:solidFill>
                <a:latin typeface="Times New Roman"/>
                <a:ea typeface="굴림"/>
              </a:rPr>
              <a:t>: PC</a:t>
            </a:r>
            <a:r>
              <a:rPr b="0" lang="ko-KR" sz="1800" spc="-1" strike="noStrike">
                <a:solidFill>
                  <a:srgbClr val="0000cc"/>
                </a:solidFill>
                <a:latin typeface="Times New Roman"/>
                <a:ea typeface="굴림"/>
              </a:rPr>
              <a:t>와 연결 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lvl="1" marL="457200">
              <a:lnSpc>
                <a:spcPct val="135000"/>
              </a:lnSpc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cc"/>
                </a:solidFill>
                <a:latin typeface="Times New Roman"/>
                <a:ea typeface="굴림"/>
              </a:rPr>
              <a:t> </a:t>
            </a:r>
            <a:r>
              <a:rPr b="0" lang="ko-KR" sz="1800" spc="-1" strike="noStrike">
                <a:solidFill>
                  <a:srgbClr val="0000cc"/>
                </a:solidFill>
                <a:latin typeface="Times New Roman"/>
                <a:ea typeface="굴림"/>
              </a:rPr>
              <a:t>PC</a:t>
            </a:r>
            <a:r>
              <a:rPr b="0" lang="ko-KR" sz="1800" spc="-1" strike="noStrike">
                <a:solidFill>
                  <a:srgbClr val="0000cc"/>
                </a:solidFill>
                <a:latin typeface="Times New Roman"/>
                <a:ea typeface="굴림"/>
              </a:rPr>
              <a:t>에 손쉽게 무료 </a:t>
            </a:r>
            <a:r>
              <a:rPr b="0" lang="ko-KR" sz="1800" spc="-1" strike="noStrike">
                <a:solidFill>
                  <a:srgbClr val="0000cc"/>
                </a:solidFill>
                <a:latin typeface="Times New Roman"/>
                <a:ea typeface="굴림"/>
              </a:rPr>
              <a:t>MAP </a:t>
            </a:r>
            <a:r>
              <a:rPr b="0" lang="ko-KR" sz="1800" spc="-1" strike="noStrike">
                <a:solidFill>
                  <a:srgbClr val="0000cc"/>
                </a:solidFill>
                <a:latin typeface="Times New Roman"/>
                <a:ea typeface="굴림"/>
              </a:rPr>
              <a:t>설치 </a:t>
            </a:r>
            <a:r>
              <a:rPr b="0" lang="ko-KR" sz="1800" spc="-1" strike="noStrike">
                <a:solidFill>
                  <a:srgbClr val="0000cc"/>
                </a:solidFill>
                <a:latin typeface="Times New Roman"/>
                <a:ea typeface="굴림"/>
              </a:rPr>
              <a:t>(</a:t>
            </a:r>
            <a:r>
              <a:rPr b="0" lang="ko-KR" sz="1800" spc="-1" strike="noStrike">
                <a:solidFill>
                  <a:srgbClr val="0000cc"/>
                </a:solidFill>
                <a:latin typeface="Times New Roman"/>
                <a:ea typeface="굴림"/>
              </a:rPr>
              <a:t>구글</a:t>
            </a:r>
            <a:r>
              <a:rPr b="0" lang="ko-KR" sz="1800" spc="-1" strike="noStrike">
                <a:solidFill>
                  <a:srgbClr val="0000cc"/>
                </a:solidFill>
                <a:latin typeface="Times New Roman"/>
                <a:ea typeface="굴림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lvl="1" marL="457200">
              <a:lnSpc>
                <a:spcPct val="135000"/>
              </a:lnSpc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cc"/>
                </a:solidFill>
                <a:latin typeface="Times New Roman"/>
                <a:ea typeface="굴림"/>
              </a:rPr>
              <a:t> </a:t>
            </a:r>
            <a:r>
              <a:rPr b="0" lang="ko-KR" sz="1800" spc="-1" strike="noStrike">
                <a:solidFill>
                  <a:srgbClr val="0000cc"/>
                </a:solidFill>
                <a:latin typeface="Times New Roman"/>
                <a:ea typeface="굴림"/>
              </a:rPr>
              <a:t>프로그램 외  별도의 설치 필요없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>
              <a:lnSpc>
                <a:spcPct val="135000"/>
              </a:lnSpc>
              <a:buClr>
                <a:srgbClr val="00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00cc"/>
                </a:solidFill>
                <a:latin typeface="Times New Roman"/>
              </a:rPr>
              <a:t>보안 기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lvl="1" marL="457200">
              <a:lnSpc>
                <a:spcPct val="135000"/>
              </a:lnSpc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cc"/>
                </a:solidFill>
                <a:latin typeface="Times New Roman"/>
                <a:ea typeface="굴림"/>
              </a:rPr>
              <a:t> </a:t>
            </a:r>
            <a:r>
              <a:rPr b="0" lang="ko-KR" sz="1800" spc="-1" strike="noStrike">
                <a:solidFill>
                  <a:srgbClr val="0000cc"/>
                </a:solidFill>
                <a:latin typeface="Times New Roman"/>
                <a:ea typeface="굴림"/>
              </a:rPr>
              <a:t>보이스 스크램블 보안기능 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lvl="1" marL="457200">
              <a:lnSpc>
                <a:spcPct val="135000"/>
              </a:lnSpc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cc"/>
                </a:solidFill>
                <a:latin typeface="Times New Roman"/>
                <a:ea typeface="굴림"/>
              </a:rPr>
              <a:t> </a:t>
            </a:r>
            <a:r>
              <a:rPr b="0" lang="ko-KR" sz="1800" spc="-1" strike="noStrike">
                <a:solidFill>
                  <a:srgbClr val="0000cc"/>
                </a:solidFill>
                <a:latin typeface="Times New Roman"/>
                <a:ea typeface="굴림"/>
              </a:rPr>
              <a:t>패스워드 프로그램 기능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0T00:23:25Z</dcterms:created>
  <dc:creator>user</dc:creator>
  <dc:description>본 문서의 2차 저작권은 예스폼(Yesform)에 있으며
무단 복제 배포시 법적인 제재를 받을 수 있습니다.</dc:description>
  <cp:keywords>www.yesform.com</cp:keywords>
  <dc:language>en-US</dc:language>
  <cp:lastModifiedBy>양영주</cp:lastModifiedBy>
  <dcterms:modified xsi:type="dcterms:W3CDTF">2011-07-10T01:48:27Z</dcterms:modified>
  <cp:revision>261</cp:revision>
  <dc:subject/>
  <dc:title>가로등 무선감시 제어 시스템</dc:title>
</cp:coreProperties>
</file>